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6C8D-F0E8-4FA6-8172-0017E5D12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F1CD-A2D7-434A-BC85-CC7D38436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0EB7-D1B4-4141-8EAB-9F7E55603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2478-C1F4-4E12-98CA-3981D4AF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E3CA-7DFB-45E4-B4AF-2E56CEDF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0781-2587-47D8-BC40-87391FD9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1D69-7CBB-45C7-A0E5-6B2CBC26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5F18-442C-40A6-9EB9-99607B9B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4BFB-D924-4958-B3AD-858B644F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C478-7832-4E3C-A3C5-9F31A853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B27D-0249-4136-87D7-47460DB7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7315-F6EE-4230-8373-22DECBF8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A217-9A11-4DCD-BB7D-A62BCEDB5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5330-D9E1-47BE-9801-B124C10F9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34C8-E262-454F-8CD3-EB3F11D3647B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247320" y="1447560"/>
            <a:ext cx="771516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78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FRICA RISING- Enhancing partnership among Africa RISING, NAFAKA and TUBORESHE CHAKULA Programs for fast tracking delivery and scaling of agricultural technologies in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8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Maize, Rice, Vegetable and Post Harvest Compon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10880" y="4349880"/>
            <a:ext cx="6164280" cy="15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Fred Kizi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On Behalf of All Team Memb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9040" y="120816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What?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1200600" y="3700440"/>
            <a:ext cx="6795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tter Crop Management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1187280" y="4559400"/>
            <a:ext cx="6837480" cy="520560"/>
          </a:xfrm>
          <a:prstGeom prst="rect">
            <a:avLst/>
          </a:prstGeom>
          <a:solidFill>
            <a:srgbClr val="77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erving Natur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6"/>
          <p:cNvSpPr/>
          <p:nvPr/>
        </p:nvSpPr>
        <p:spPr>
          <a:xfrm>
            <a:off x="1174680" y="5392800"/>
            <a:ext cx="6865920" cy="52056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roving Household 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8"/>
          <p:cNvSpPr/>
          <p:nvPr/>
        </p:nvSpPr>
        <p:spPr>
          <a:xfrm>
            <a:off x="1184400" y="2881440"/>
            <a:ext cx="6840360" cy="520560"/>
          </a:xfrm>
          <a:prstGeom prst="rect">
            <a:avLst/>
          </a:prstGeom>
          <a:solidFill>
            <a:srgbClr val="3b64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tter C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Up-Down Arrow 4"/>
          <p:cNvSpPr/>
          <p:nvPr/>
        </p:nvSpPr>
        <p:spPr>
          <a:xfrm>
            <a:off x="7723080" y="1884240"/>
            <a:ext cx="1476360" cy="5051520"/>
          </a:xfrm>
          <a:prstGeom prst="upDownArrow">
            <a:avLst>
              <a:gd name="adj1" fmla="val 50000"/>
              <a:gd name="adj2" fmla="val 50041"/>
            </a:avLst>
          </a:prstGeom>
          <a:solidFill>
            <a:srgbClr val="771f28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ing Food Wastage and Spoil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Up-Down Arrow 10"/>
          <p:cNvSpPr/>
          <p:nvPr/>
        </p:nvSpPr>
        <p:spPr>
          <a:xfrm>
            <a:off x="14400" y="1879560"/>
            <a:ext cx="1473120" cy="5049720"/>
          </a:xfrm>
          <a:prstGeom prst="upDownArrow">
            <a:avLst>
              <a:gd name="adj1" fmla="val 50000"/>
              <a:gd name="adj2" fmla="val 49974"/>
            </a:avLst>
          </a:prstGeom>
          <a:solidFill>
            <a:srgbClr val="3b6431"/>
          </a:solidFill>
          <a:ln w="25560">
            <a:solidFill>
              <a:srgbClr val="3b64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unity Empowerment and Sustain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25440" y="71712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How?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-65160" y="1362240"/>
            <a:ext cx="9180720" cy="53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2457360" y="8985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Wher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1"/>
          <a:stretch/>
        </p:blipFill>
        <p:spPr>
          <a:xfrm>
            <a:off x="1023840" y="1541520"/>
            <a:ext cx="82155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55440" y="703440"/>
            <a:ext cx="4861080" cy="6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Who?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1577880" y="1368360"/>
            <a:ext cx="638676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8T16:50:55Z</dcterms:created>
  <dc:creator>ALUNA</dc:creator>
  <dc:description/>
  <dc:language>en-US</dc:language>
  <cp:lastModifiedBy>Kizito, Fred</cp:lastModifiedBy>
  <dcterms:modified xsi:type="dcterms:W3CDTF">2015-07-08T18:01:53Z</dcterms:modified>
  <cp:revision>636</cp:revision>
  <dc:subject/>
  <dc:title>Slide 1</dc:title>
</cp:coreProperties>
</file>